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FD20-D78B-489D-B1A3-B589EABD2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3BAF-01A7-4CE1-865D-B347DE4AF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CB6A-D6C3-4EF4-9FE8-14CDD886A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5DE2-B2DD-4D9D-9CBA-1DE66E496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E2A1-B473-487E-B373-5B292BDFA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0447-5873-48D9-884B-765D8AD45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752-24EC-49D6-9690-C5DCC29D9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1E81-2B45-4326-9BDF-3EAA88A74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19F9-9323-4595-968F-1D74821B4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FC6A-2C7A-4051-A3F5-E6B949BC0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4A02-24C2-4AD1-BA35-B6FC3CF96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95E4-C1C7-44BC-A692-F14310A1E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6122-336F-459E-89A7-284C2019D4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936-43BE-48F1-8879-6758588B9A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DB1-771A-4225-B264-7157B15BA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3B10-464A-4B8E-9CB9-DE0026831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eveloping a 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PR Expectation provi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r. 8 NSN 3.0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OR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r. 9 NA 1.0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either BIN 3 or BIN 4 to use as a lens to filter the expectation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Optional) Choose a mathematical process to incorporate with the expectation and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Learning Go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17D-656D-429B-9773-EC87453B45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(on Post Its) using your Learning Goal and a mathematical process as your lens for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cording Template for sharing</a:t>
            </a: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 (chart paper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DA06-990B-4829-B92F-4A9D9FC7F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62120" y="1752480"/>
            <a:ext cx="76960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c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ig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thematical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riteria for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34120" y="3505320"/>
            <a:ext cx="251460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dback provided on Post-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20120" y="4267080"/>
            <a:ext cx="3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620120" y="5181480"/>
            <a:ext cx="38088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105520" y="4724280"/>
            <a:ext cx="3808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type of feedback provided.  Consider the Learning Goal, the Big Idea, and the Mathematical Process used to inform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imilarities to the feedback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an example of feedback provided that you feel wa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8T18:18:08Z</dcterms:modified>
  <cp:revision>41</cp:revision>
  <dc:subject/>
  <dc:title>&lt;Title&gt;</dc:title>
</cp:coreProperties>
</file>